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8AD-3541-4EA2-B1BA-C55BE39A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283-DE2A-4FCF-A6F1-31FB2589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425-E6CD-4BD4-8C0A-7958BC50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BD7-C040-40EF-9B78-AF5894C5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35B-3C18-4230-B806-758D5ADA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432-E84D-43F8-9ACF-45B1713A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4D9-57B2-4B94-941E-40E9BD9F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ABE-4E6F-4698-9686-82B9CDB4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AD2-EAC8-4ABF-A8B0-6DFC3441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037-25D6-4AB0-8FAF-8926B03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93C-EB1A-4600-9939-5CB0E3E7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2E2-8EEF-40E7-B04D-A6EE5799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D64D-6F6B-433D-BA0E-C1C0F62C9FC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417680"/>
            <a:ext cx="70725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ν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ουτο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αυ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ν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αὐτο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ὑτο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ν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αὑτ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286080" y="2255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eminine Nomin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286080" y="2747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Neuter Genitive Singul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3286080" y="3244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286080" y="3728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86080" y="4259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28608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286080" y="52894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3286080" y="5800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eminine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422360"/>
            <a:ext cx="707220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ὑτος ἠν ὁ τοπο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νεκρα τα προβατα τουτω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λος ὁ ὀχλος ἠκου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εγει ἐκειναις ταις                         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ραβολαις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ἱ προφ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υφλοι εἰσιν οὑτοι οἱ μαθητα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22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was the pl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73384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sheep of these people 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29240" y="3730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whole crowd was liste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29240" y="427356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is speaking in th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33920" y="5283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is prophets are co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811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se disciples are bli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85840" y="1143000"/>
            <a:ext cx="6072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ρνουνται ἑαυτου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ιλω ἐκεινον μαθητη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υναγει ταυτα τα προβατ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διδασκεν ἀλλαις παραβολα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ν τῃ αὐτῃ ἡμερᾳ ἡ Μαρια ἐβλεψε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ον κυρ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ια ταυτα ὁ ὀχλος ἐλαλε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λληλοι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are denying themselv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love that disci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929120" y="3000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e is gathering these shee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929120" y="37321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used to teach in other par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929120" y="44593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n the same day Mary s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Lo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929120" y="55720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of  these things the crowd were saying to one an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85840" y="1143000"/>
            <a:ext cx="60721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ος ὁ Ἰησους προσηυχετ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ηρετης ἠν τουτου του ἱερ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e are praying to the same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eter himself denied Jes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began to listen after th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ose demons are ev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himself was pray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a servant  of this te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929120" y="2890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οσευχομεθα τῳ αὐτῳ θε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929120" y="34894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αὐτος ὁ Πετρος ἠρνησατο τ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ησου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929120" y="43988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ετα τουτο ἠρξαντο ἀκουσα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 jus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ἠκουον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929120" y="53132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εινα τα δαιμονια (ἠ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νηρ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5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42920" y="1143000"/>
            <a:ext cx="70722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 σου σωζε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θεος σωζει σ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ἡμεις ἐπιστευσαμεν ἀλλα σ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κ ἠκουσα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υ σωσεις σεαυτον ἀλλ’ ἐγω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λλους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ave yourself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will proclaim your (pl.) d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643280" y="197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r law sa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643280" y="24861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 saves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629240" y="297180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e believed, but you did no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lis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629240" y="401328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will save yourself, but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will save)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633920" y="498636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ωσον σεαυ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629240" y="55166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ηρυξω τα ἐργα ὑμ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6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57120" y="1428840"/>
            <a:ext cx="385776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λλοι ἐπιστευσαν, οἱ γαρ μαθηται εὐηγγελιζοντο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μεν θεος ἐπεμψεν τους προφητας, τυφλος δε ὁ λαο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θεος φιλει και τους πονηρ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ny believed because (for) the disciples were proclaiming the good new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643280" y="343548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 sent the prophets, but the people were bli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657680" y="50385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oes God love even (the) evil peop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7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57120" y="1428840"/>
            <a:ext cx="38577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 Ἰωσηφ λεγει αὐτῳ. ὁ δε οὐκ ἀκουσε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ἱ μεν προσερχονται, οἱ δε ὑπαγουσιν εἰς τους οἰκους αὐτω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refore we will seek the lo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oseph is speaking to him, but he (the other one) will not lis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643280" y="343548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ome are approaching, others are departing for their h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657680" y="5011560"/>
            <a:ext cx="41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ζητησομεν οὐν τον κυριο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1:37:17Z</dcterms:created>
  <dc:creator>Sarah</dc:creator>
  <dc:description/>
  <dc:language>en-US</dc:language>
  <cp:lastModifiedBy>Sarah</cp:lastModifiedBy>
  <dcterms:modified xsi:type="dcterms:W3CDTF">2008-09-08T15:17:35Z</dcterms:modified>
  <cp:revision>34</cp:revision>
  <dc:subject/>
  <dc:title>Slide 1</dc:title>
</cp:coreProperties>
</file>